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33.jpeg" ContentType="image/jpeg"/>
  <Override PartName="/ppt/media/image26.wmf" ContentType="image/x-wmf"/>
  <Override PartName="/ppt/media/image24.png" ContentType="image/png"/>
  <Override PartName="/ppt/media/image23.jpeg" ContentType="image/jpeg"/>
  <Override PartName="/ppt/media/image12.png" ContentType="image/png"/>
  <Override PartName="/ppt/media/image20.png" ContentType="image/png"/>
  <Override PartName="/ppt/media/image4.jpeg" ContentType="image/jpeg"/>
  <Override PartName="/ppt/media/image16.wmf" ContentType="image/x-wmf"/>
  <Override PartName="/ppt/media/image8.png" ContentType="image/png"/>
  <Override PartName="/ppt/media/image18.png" ContentType="image/png"/>
  <Override PartName="/ppt/media/image6.jpeg" ContentType="image/jpeg"/>
  <Override PartName="/ppt/media/image13.png" ContentType="image/png"/>
  <Override PartName="/ppt/media/image3.png" ContentType="image/png"/>
  <Override PartName="/ppt/media/image11.wmf" ContentType="image/x-wmf"/>
  <Override PartName="/ppt/media/image30.jpeg" ContentType="image/jpeg"/>
  <Override PartName="/ppt/media/image15.png" ContentType="image/png"/>
  <Override PartName="/ppt/media/image31.png" ContentType="image/png"/>
  <Override PartName="/ppt/media/image34.png" ContentType="image/png"/>
  <Override PartName="/ppt/media/image36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9.png" ContentType="image/png"/>
  <Override PartName="/ppt/media/image22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14.png" ContentType="image/png"/>
  <Override PartName="/ppt/media/image17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CCBB-D13E-4567-8194-B2A76B2BCB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4078-E8D8-4C3E-9395-3CE6E0AE9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C871-E7E0-4DA1-B1E2-0ED62FE364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05CD-B2EF-4F2A-927F-93C592084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6D945-125D-40A7-805D-FF49C68DC5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32889-335E-4B0F-981A-B581B1CB99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A6C7D-D309-491D-938D-B12879D007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B0E9E-3FE1-4BEB-A195-80B7DDB51A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E706C-7ADA-4A3F-B282-1344E393AB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8A05F-7487-49E3-885F-BFDF2EF282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86FC4-B51C-4E4D-9874-C5E5AAF00B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49732-643B-478E-BE1E-7C462AC131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7E6EF-1840-40FE-9979-8C612AA9C0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74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FCBC6-DAEA-4392-B5AD-DD28D82572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9AA72-F4E9-4624-8F9F-0BA54B0E68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D205B-869B-478A-A71F-A06C3F80AC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3AD1A-7FDF-4EBE-A8A4-84B9916539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17E40-7762-4E7E-9F53-495A1CFDCC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26E99-743C-4764-8BB7-EC887CA1DE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41F86-B88C-487B-9A0A-E3C6AEB016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E07A7-B7E5-49B2-A680-92779C5D47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16B97-A155-4033-A7FF-CBB18BFDC4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CFF75-D092-46D0-AC3B-5DD408B615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A400A-F5A2-411B-9E3B-D94CB3EDD5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74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A842F-FD53-4787-9D67-22EE22AA81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324B2-8B42-4B36-8BF0-12FE677511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4B057-0CBF-4E6D-B78E-3B87F47D05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1825A-107B-43A5-A5A9-89CD38E6BD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1523880"/>
            <a:chOff x="0" y="0"/>
            <a:chExt cx="9144000" cy="152388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9144000" cy="14479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50000">
                  <a:srgbClr val="ffcc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0"/>
              <a:ext cx="9144000" cy="15238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507440" y="454680"/>
            <a:ext cx="16365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F687C0AE-EC6F-4AD4-B2AE-324FE9312774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0" y="6324480"/>
            <a:ext cx="9150480" cy="547920"/>
            <a:chOff x="0" y="6324480"/>
            <a:chExt cx="9150480" cy="547920"/>
          </a:xfrm>
        </p:grpSpPr>
        <p:sp>
          <p:nvSpPr>
            <p:cNvPr id="7" name="Rectangle 9"/>
            <p:cNvSpPr/>
            <p:nvPr/>
          </p:nvSpPr>
          <p:spPr>
            <a:xfrm>
              <a:off x="0" y="6324480"/>
              <a:ext cx="9144000" cy="5479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6415200"/>
              <a:ext cx="9144000" cy="4572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0" y="6507000"/>
              <a:ext cx="9144000" cy="365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Text Box 12"/>
            <p:cNvSpPr/>
            <p:nvPr/>
          </p:nvSpPr>
          <p:spPr>
            <a:xfrm>
              <a:off x="2846520" y="6551640"/>
              <a:ext cx="344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© 2012 Cengage Learning. All Rights Reserved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Text Box 13"/>
            <p:cNvSpPr/>
            <p:nvPr/>
          </p:nvSpPr>
          <p:spPr>
            <a:xfrm>
              <a:off x="6921360" y="6537240"/>
              <a:ext cx="22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Principles of Business, 8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Text Box 14"/>
          <p:cNvSpPr/>
          <p:nvPr/>
        </p:nvSpPr>
        <p:spPr>
          <a:xfrm>
            <a:off x="7238880" y="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 H A P T E R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4"/>
          <p:cNvGrpSpPr/>
          <p:nvPr/>
        </p:nvGrpSpPr>
        <p:grpSpPr>
          <a:xfrm>
            <a:off x="0" y="6324480"/>
            <a:ext cx="9144000" cy="547920"/>
            <a:chOff x="0" y="6324480"/>
            <a:chExt cx="9144000" cy="547920"/>
          </a:xfrm>
        </p:grpSpPr>
        <p:sp>
          <p:nvSpPr>
            <p:cNvPr id="50" name="Rectangle 5"/>
            <p:cNvSpPr/>
            <p:nvPr/>
          </p:nvSpPr>
          <p:spPr>
            <a:xfrm>
              <a:off x="0" y="6324480"/>
              <a:ext cx="9144000" cy="5479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6"/>
            <p:cNvSpPr/>
            <p:nvPr/>
          </p:nvSpPr>
          <p:spPr>
            <a:xfrm>
              <a:off x="0" y="6415200"/>
              <a:ext cx="9144000" cy="4572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7"/>
            <p:cNvSpPr/>
            <p:nvPr/>
          </p:nvSpPr>
          <p:spPr>
            <a:xfrm>
              <a:off x="0" y="6507000"/>
              <a:ext cx="9144000" cy="365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8"/>
            <p:cNvSpPr/>
            <p:nvPr/>
          </p:nvSpPr>
          <p:spPr>
            <a:xfrm>
              <a:off x="2846520" y="6551640"/>
              <a:ext cx="344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© 2012 Cengage Learning. All Rights Reserved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0"/>
            <a:ext cx="9144000" cy="2932200"/>
            <a:chOff x="0" y="0"/>
            <a:chExt cx="9144000" cy="2932200"/>
          </a:xfrm>
        </p:grpSpPr>
        <p:sp>
          <p:nvSpPr>
            <p:cNvPr id="55" name="Rectangle 10"/>
            <p:cNvSpPr/>
            <p:nvPr/>
          </p:nvSpPr>
          <p:spPr>
            <a:xfrm>
              <a:off x="0" y="0"/>
              <a:ext cx="9144000" cy="14479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50000">
                  <a:srgbClr val="ffcc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rc 11"/>
            <p:cNvSpPr/>
            <p:nvPr/>
          </p:nvSpPr>
          <p:spPr>
            <a:xfrm>
              <a:off x="0" y="0"/>
              <a:ext cx="4572000" cy="2438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rc 12"/>
            <p:cNvSpPr/>
            <p:nvPr/>
          </p:nvSpPr>
          <p:spPr>
            <a:xfrm flipH="1">
              <a:off x="1371600" y="0"/>
              <a:ext cx="7772400" cy="2438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3"/>
            <p:cNvSpPr/>
            <p:nvPr/>
          </p:nvSpPr>
          <p:spPr>
            <a:xfrm>
              <a:off x="458640" y="2057400"/>
              <a:ext cx="73137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14" descr="9781111426941_lg"/>
            <p:cNvPicPr/>
            <p:nvPr/>
          </p:nvPicPr>
          <p:blipFill>
            <a:blip r:embed="rId2"/>
            <a:stretch/>
          </p:blipFill>
          <p:spPr>
            <a:xfrm>
              <a:off x="6858000" y="0"/>
              <a:ext cx="2286000" cy="293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2"/>
          </p:nvPr>
        </p:nvSpPr>
        <p:spPr>
          <a:xfrm>
            <a:off x="6552720" y="6414120"/>
            <a:ext cx="21337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31887A0E-35A6-41C1-BC64-36451337B71B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youtu.be/98BIu9dpwHU" TargetMode="External"/><Relationship Id="rId2" Type="http://schemas.openxmlformats.org/officeDocument/2006/relationships/hyperlink" Target="http://6abc.com/archive/9345852/" TargetMode="External"/><Relationship Id="rId3" Type="http://schemas.openxmlformats.org/officeDocument/2006/relationships/hyperlink" Target="http://youtu.be/cRTNvWcx9Oo" TargetMode="External"/><Relationship Id="rId4" Type="http://schemas.openxmlformats.org/officeDocument/2006/relationships/hyperlink" Target="http://youtu.be/cRTNvWcx9Oo" TargetMode="External"/><Relationship Id="rId5" Type="http://schemas.openxmlformats.org/officeDocument/2006/relationships/hyperlink" Target="http://youtu.be/cRTNvWcx9Oo" TargetMode="External"/><Relationship Id="rId6" Type="http://schemas.openxmlformats.org/officeDocument/2006/relationships/hyperlink" Target="http://en.wikipedia.org/wiki/Google" TargetMode="External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enterrasolutions.com/category/artificial-intelligence" TargetMode="External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1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3CF15E34-D922-4D41-AAF5-3D4CBE793FA1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2743200" y="3352680"/>
            <a:ext cx="6400800" cy="14965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11-1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11-2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Applications of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11-3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Technology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9781111426941_lg"/>
          <p:cNvPicPr/>
          <p:nvPr/>
        </p:nvPicPr>
        <p:blipFill>
          <a:blip r:embed="rId1"/>
          <a:stretch/>
        </p:blipFill>
        <p:spPr>
          <a:xfrm>
            <a:off x="0" y="3392640"/>
            <a:ext cx="2286000" cy="29318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0" y="106668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9900"/>
                </a:solidFill>
                <a:latin typeface="Arial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0" y="9907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C H A P T E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2286000" y="1066680"/>
            <a:ext cx="5562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siness and Techn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25E07FA9-FF7A-4036-B23D-F022F3FF8111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INPUT AND PROCESSING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: 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 Processing Unit (CPU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trol center of the computer  “BRAI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ries of detailed, step-by-step instructions that tell the computer what function to comple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of letter, words, numbers &amp; symbol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communicate with a comput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http://www.custom-build-computers.com/image-files/main-computer-components.jpg"/>
          <p:cNvPicPr/>
          <p:nvPr/>
        </p:nvPicPr>
        <p:blipFill>
          <a:blip r:embed="rId1"/>
          <a:stretch/>
        </p:blipFill>
        <p:spPr>
          <a:xfrm>
            <a:off x="6705720" y="1447920"/>
            <a:ext cx="2324160" cy="1876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http://www.jegsworks.com/LESSONS/ComputerBasics/lesson9/languages.gif"/>
          <p:cNvPicPr/>
          <p:nvPr/>
        </p:nvPicPr>
        <p:blipFill>
          <a:blip r:embed="rId2"/>
          <a:stretch/>
        </p:blipFill>
        <p:spPr>
          <a:xfrm>
            <a:off x="6642000" y="4648320"/>
            <a:ext cx="2387880" cy="1622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C7673E09-458C-4FAC-A84A-5A426506F5FE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INPUT AND PROCESSING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415880"/>
            <a:ext cx="845820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Main Types of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 Softw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es commands and allow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programs to interact wit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puters hardwa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commonly used Operating System: 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 Softw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s that perform specific tasks such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d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ktop publis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"/>
          <p:cNvSpPr/>
          <p:nvPr/>
        </p:nvSpPr>
        <p:spPr>
          <a:xfrm>
            <a:off x="4191120" y="492768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457200" indent="-342720"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readsheet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457200" indent="-342720"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sentation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0" descr=""/>
          <p:cNvPicPr/>
          <p:nvPr/>
        </p:nvPicPr>
        <p:blipFill>
          <a:blip r:embed="rId1"/>
          <a:stretch/>
        </p:blipFill>
        <p:spPr>
          <a:xfrm>
            <a:off x="5791320" y="1415880"/>
            <a:ext cx="3319200" cy="1938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http://3.bp.blogspot.com/-Qjz7-PBM5hs/UzpUZNYAZmI/AAAAAAAAHGo/qKU3ghw9cfA/s1600/microsoft-office.png"/>
          <p:cNvPicPr/>
          <p:nvPr/>
        </p:nvPicPr>
        <p:blipFill>
          <a:blip r:embed="rId2"/>
          <a:stretch/>
        </p:blipFill>
        <p:spPr>
          <a:xfrm>
            <a:off x="7227720" y="4572000"/>
            <a:ext cx="1872000" cy="1190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A7264870-DF5E-4462-AB92-75D4D8A2D8AD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heckpoint </a:t>
            </a:r>
            <a:r>
              <a:rPr b="1" lang="en-US" sz="4000" spc="-1" strike="noStrike">
                <a:solidFill>
                  <a:srgbClr val="0066ff"/>
                </a:solidFill>
                <a:latin typeface="Wingdings"/>
                <a:ea typeface="Wingdings"/>
              </a:rPr>
              <a:t>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66720" y="2037960"/>
            <a:ext cx="7810560" cy="3878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common input devi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input devices include keyboard, mouse, game controller, joystick, touch-sensitive screen, scanner, voice-activated system, microphone, and came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98F1F1C4-3B67-4D7F-A923-6191A348D52F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MEMORY AND OUTPUT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and Storage: Saving for 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the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capacit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d uni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s, Flash Driv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Cards, external hard d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064" descr=""/>
          <p:cNvPicPr/>
          <p:nvPr/>
        </p:nvPicPr>
        <p:blipFill>
          <a:blip r:embed="rId1"/>
          <a:stretch/>
        </p:blipFill>
        <p:spPr>
          <a:xfrm>
            <a:off x="4572000" y="2666880"/>
            <a:ext cx="3992400" cy="2928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238880" y="455040"/>
            <a:ext cx="16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4470F31B-9E0B-4580-833F-377132FE8D4A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MEMORY &amp; OUTPUT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5345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: Obtaining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re of video game, result of test, final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data in a form that can be retrieved later or communicated immedi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Output – Screen results or printed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 Output – logo, photo, drawings, an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o Output – music, broadcast clips, 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 Output – Film, TV, News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http://4.bp.blogspot.com/-pUG8iFUxwlQ/UHkcII9qRkI/AAAAAAAAAE4/P3_Yqx_M4aw/s1600/Output%2BDevices.jpg"/>
          <p:cNvPicPr/>
          <p:nvPr/>
        </p:nvPicPr>
        <p:blipFill>
          <a:blip r:embed="rId1"/>
          <a:stretch/>
        </p:blipFill>
        <p:spPr>
          <a:xfrm>
            <a:off x="5943600" y="792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37282351-C8CC-49E9-A046-DB259509CA4C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heckpoint </a:t>
            </a:r>
            <a:r>
              <a:rPr b="1" lang="en-US" sz="4000" spc="-1" strike="noStrike">
                <a:solidFill>
                  <a:srgbClr val="0066ff"/>
                </a:solidFill>
                <a:latin typeface="Wingdings"/>
                <a:ea typeface="Wingdings"/>
              </a:rPr>
              <a:t>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66720" y="2037960"/>
            <a:ext cx="7810560" cy="3878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internal and external memory diff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memory is inside the comput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holds a fixed amount of da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memory is not stored within the computer and it is highly por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3"/>
          <p:cNvSpPr/>
          <p:nvPr/>
        </p:nvSpPr>
        <p:spPr>
          <a:xfrm>
            <a:off x="6553080" y="64144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FB04B988-794C-4B05-B2E3-747DFE07E775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6248520" cy="24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78080" indent="0">
              <a:buNone/>
              <a:tabLst>
                <a:tab algn="l" pos="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11-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siness Applications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Technology</a:t>
            </a: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29718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378080" indent="0">
              <a:spcBef>
                <a:spcPts val="700"/>
              </a:spcBef>
              <a:buNone/>
              <a:tabLst>
                <a:tab algn="l" pos="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Goal 1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components of a management information system (MI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78080" indent="0">
              <a:spcBef>
                <a:spcPts val="700"/>
              </a:spcBef>
              <a:buNone/>
              <a:tabLst>
                <a:tab algn="l" pos="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Goal 2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computer applications in service indust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78080" indent="0">
              <a:spcBef>
                <a:spcPts val="700"/>
              </a:spcBef>
              <a:buNone/>
              <a:tabLst>
                <a:tab algn="l" pos="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Goal 3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e-commerce activ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5183FD3A-A141-4223-9971-B3F2DDC77DB2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KEY TERM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 information system (M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-assisted instruction (CA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comme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A0FBF621-5AD5-4DD6-99D4-3E209B10EBF8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MANAGEMENT INFORMATION SYSTEM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4582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ment information syste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IS) is a coordinated system of processing and reporting information in an organiz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rs need information to make business decis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systems and software are essential parts of M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"/>
          <p:cNvPicPr/>
          <p:nvPr/>
        </p:nvPicPr>
        <p:blipFill>
          <a:blip r:embed="rId1"/>
          <a:stretch/>
        </p:blipFill>
        <p:spPr>
          <a:xfrm>
            <a:off x="3429000" y="4884840"/>
            <a:ext cx="5715000" cy="1973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2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ED5CC6B7-4340-432A-A9A1-791537696265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042"/>
          <p:cNvSpPr/>
          <p:nvPr/>
        </p:nvSpPr>
        <p:spPr>
          <a:xfrm>
            <a:off x="2057400" y="2286000"/>
            <a:ext cx="5029200" cy="32004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OMPONENTS OF AN  MI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81" name="Picture 1037" descr=""/>
          <p:cNvPicPr/>
          <p:nvPr/>
        </p:nvPicPr>
        <p:blipFill>
          <a:blip r:embed="rId1"/>
          <a:stretch/>
        </p:blipFill>
        <p:spPr>
          <a:xfrm>
            <a:off x="3654360" y="4710240"/>
            <a:ext cx="1833480" cy="1461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82" name="Picture 1039" descr=""/>
          <p:cNvPicPr/>
          <p:nvPr/>
        </p:nvPicPr>
        <p:blipFill>
          <a:blip r:embed="rId2"/>
          <a:stretch/>
        </p:blipFill>
        <p:spPr>
          <a:xfrm>
            <a:off x="3654360" y="1600200"/>
            <a:ext cx="1833480" cy="145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83" name="Picture 1036" descr=""/>
          <p:cNvPicPr/>
          <p:nvPr/>
        </p:nvPicPr>
        <p:blipFill>
          <a:blip r:embed="rId3"/>
          <a:stretch/>
        </p:blipFill>
        <p:spPr>
          <a:xfrm>
            <a:off x="6138720" y="3154320"/>
            <a:ext cx="1833840" cy="14511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84" name="Picture 1038" descr=""/>
          <p:cNvPicPr/>
          <p:nvPr/>
        </p:nvPicPr>
        <p:blipFill>
          <a:blip r:embed="rId4"/>
          <a:stretch/>
        </p:blipFill>
        <p:spPr>
          <a:xfrm>
            <a:off x="1138320" y="3165480"/>
            <a:ext cx="1833480" cy="1440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85" name="Picture 1040" descr=""/>
          <p:cNvPicPr/>
          <p:nvPr/>
        </p:nvPicPr>
        <p:blipFill>
          <a:blip r:embed="rId5"/>
          <a:stretch/>
        </p:blipFill>
        <p:spPr>
          <a:xfrm>
            <a:off x="3338640" y="3430440"/>
            <a:ext cx="2463840" cy="90036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1052"/>
          <p:cNvSpPr/>
          <p:nvPr/>
        </p:nvSpPr>
        <p:spPr>
          <a:xfrm rot="17947200">
            <a:off x="2742840" y="4814640"/>
            <a:ext cx="381240" cy="5335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053"/>
          <p:cNvSpPr/>
          <p:nvPr/>
        </p:nvSpPr>
        <p:spPr>
          <a:xfrm flipV="1" rot="14851800">
            <a:off x="2895120" y="2313720"/>
            <a:ext cx="380880" cy="5331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054"/>
          <p:cNvSpPr/>
          <p:nvPr/>
        </p:nvSpPr>
        <p:spPr>
          <a:xfrm flipV="1" rot="3652800">
            <a:off x="6019560" y="4804560"/>
            <a:ext cx="380880" cy="5335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055"/>
          <p:cNvSpPr/>
          <p:nvPr/>
        </p:nvSpPr>
        <p:spPr>
          <a:xfrm rot="6748200">
            <a:off x="5791320" y="2285640"/>
            <a:ext cx="380880" cy="5335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6553080" y="64144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C24C87B2-485E-435E-BE74-40BBAF87BA38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5942160" cy="24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11-1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2971800"/>
            <a:ext cx="73152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378080" indent="0">
              <a:spcBef>
                <a:spcPts val="700"/>
              </a:spcBef>
              <a:buNone/>
              <a:tabLst>
                <a:tab algn="l" pos="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Goal 1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main elements of a computer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78080" indent="0">
              <a:spcBef>
                <a:spcPts val="700"/>
              </a:spcBef>
              <a:buNone/>
              <a:tabLst>
                <a:tab algn="l" pos="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Goal 2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input devices and processing activ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78080" indent="0">
              <a:spcBef>
                <a:spcPts val="700"/>
              </a:spcBef>
              <a:buNone/>
              <a:tabLst>
                <a:tab algn="l" pos="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Goal 3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computer storage media and output typ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OMPONENTS OF AN  MI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6840" y="1447560"/>
            <a:ext cx="84582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ctivities allow an organization to obtain information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228600">
              <a:spcBef>
                <a:spcPts val="499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dgets, sales reports, financial stat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on &amp; Inven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228600">
              <a:spcBef>
                <a:spcPts val="499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 summaries, tools / supplies, finished good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ing &amp; S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228600">
              <a:spcBef>
                <a:spcPts val="499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er needs, economic conditions, compet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 Recour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228600">
              <a:spcBef>
                <a:spcPts val="499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laries, employee benefits, employee eval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2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E366B277-A8D8-4582-86BA-CE01B8CA8E94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CBC0E70E-790C-45AA-A3E2-64D74F87BA57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345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 data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utsi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Institutions, Government Agencies, 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 data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si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ing records, inventory reports, sales fig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raw data is collected, changing the info into meaningful information is the major goal of M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EF8B74B9-2179-41CE-837B-76B0E182EDC0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THE MIS IN ACTION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5345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y the information needs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 the organiz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2.</a:t>
            </a: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tain facts, figures, and other da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3.</a:t>
            </a: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cess, analyze, and organize data in a useful mann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4.</a:t>
            </a: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ribute information reports to those who make decis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5.</a:t>
            </a: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pdate data files as need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1"/>
          <a:stretch/>
        </p:blipFill>
        <p:spPr>
          <a:xfrm>
            <a:off x="6172200" y="0"/>
            <a:ext cx="3078000" cy="2886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ED829C47-92E3-481A-8F75-66038632F378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heckpoint </a:t>
            </a:r>
            <a:r>
              <a:rPr b="1" lang="en-US" sz="4000" spc="-1" strike="noStrike">
                <a:solidFill>
                  <a:srgbClr val="0066ff"/>
                </a:solidFill>
                <a:latin typeface="Wingdings"/>
                <a:ea typeface="Wingdings"/>
              </a:rPr>
              <a:t>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6720" y="2037960"/>
            <a:ext cx="7810560" cy="3878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four components of a management information syst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ur component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hering dat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ing dat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ing data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ing res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7C702107-DB71-4F36-AE2E-67E5E12D8A4E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TECHNOLOGY IN </a:t>
            </a:r>
            <a:br>
              <a:rPr sz="4000"/>
            </a:b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SERVICE INDUSTRIE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han 60% of workers in the U.S. are employed in service indust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se of computers in these organizations is extens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3809880" y="4495680"/>
            <a:ext cx="4267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6A1B4119-01A7-415E-8EEF-87D2E92DF539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TECHNOLOGY IN </a:t>
            </a:r>
            <a:br>
              <a:rPr sz="4000"/>
            </a:b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SERVICE INDUSTRIE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2280" y="182844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Servic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vernment, military, and police agen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Security Records, Military Records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cal Info, Police Records, School Records</a:t>
            </a:r>
            <a:br>
              <a:rPr sz="2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ducational instit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ool districts, community colleges/univers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/Test Workers, Receive Instruction, Simu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uter-Assisted Instruc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use of computers to help people learn or improve skills at their own pac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nformation Technology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IT) – Highly sought after skill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6" descr="http://www.therightplanet.com/wp-content/uploads/2011/09/HUD.gif"/>
          <p:cNvPicPr/>
          <p:nvPr/>
        </p:nvPicPr>
        <p:blipFill>
          <a:blip r:embed="rId1"/>
          <a:stretch/>
        </p:blipFill>
        <p:spPr>
          <a:xfrm>
            <a:off x="6324480" y="8380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http://www.udsd.org/uploaded/documents/Jason_2/4180_-_32_copy.jpg"/>
          <p:cNvPicPr/>
          <p:nvPr/>
        </p:nvPicPr>
        <p:blipFill>
          <a:blip r:embed="rId2"/>
          <a:stretch/>
        </p:blipFill>
        <p:spPr>
          <a:xfrm>
            <a:off x="6937200" y="3352680"/>
            <a:ext cx="2067120" cy="1378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922FA232-86B1-4677-A7F4-4DD608EE351A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TECHNOLOGY IN </a:t>
            </a:r>
            <a:br>
              <a:rPr sz="4000"/>
            </a:b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SERVICE INDUSTRIE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4582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lth care fac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pitals and doctors’ off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ing patient records, monitoring med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emedic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ideoconferencing: diagnosis long-distance and treat locally; expanding health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ancial services indus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s and insurance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ine Bill Pay, Checking Credit Scores, Selling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rt Cards – silicon chip stores personal info (banking, medical, travel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6" descr="http://www.hcergo.org/iStock_000010501389XSmall.jpg"/>
          <p:cNvPicPr/>
          <p:nvPr/>
        </p:nvPicPr>
        <p:blipFill>
          <a:blip r:embed="rId1"/>
          <a:stretch/>
        </p:blipFill>
        <p:spPr>
          <a:xfrm>
            <a:off x="6477120" y="1143000"/>
            <a:ext cx="2181240" cy="15368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http://cdn2.hubspot.net/hub/397004/file-953829147-jpg/images/industries_financial.jpg?t=1421950374413"/>
          <p:cNvPicPr/>
          <p:nvPr/>
        </p:nvPicPr>
        <p:blipFill>
          <a:blip r:embed="rId2"/>
          <a:stretch/>
        </p:blipFill>
        <p:spPr>
          <a:xfrm>
            <a:off x="6477120" y="4114800"/>
            <a:ext cx="2438280" cy="1050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273CCF0E-0CEB-4647-A190-06C89713867E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heckpoint </a:t>
            </a:r>
            <a:r>
              <a:rPr b="1" lang="en-US" sz="4000" spc="-1" strike="noStrike">
                <a:solidFill>
                  <a:srgbClr val="0066ff"/>
                </a:solidFill>
                <a:latin typeface="Wingdings"/>
                <a:ea typeface="Wingdings"/>
              </a:rPr>
              <a:t>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66360" y="2037960"/>
            <a:ext cx="8039160" cy="3878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ervice industries make extensive use of compu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industries that make extensive use of computers includ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service organizat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as government, military, and police agenci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ucational institut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as local school districts, community colleges, and universiti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lth care fac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uch as hospitals and doctors’ offices;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ial services industr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uch as banks and insurance compan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0A9B33C8-F63C-448E-80FC-E13FAA4D1930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E-COMMERC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4582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-comme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fers to conducting business transactions using Internet or other te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mon e-commerce activ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575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viding product inf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575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moting a compa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575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lling onli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575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nducting market researc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575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king pay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575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btaining parts and suppl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575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racking ship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8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0" descr="http://www.tmogroup.asia/wp-content/uploads/2014/06/multipayment.jpg"/>
          <p:cNvPicPr/>
          <p:nvPr/>
        </p:nvPicPr>
        <p:blipFill>
          <a:blip r:embed="rId1"/>
          <a:stretch/>
        </p:blipFill>
        <p:spPr>
          <a:xfrm>
            <a:off x="5562720" y="3505320"/>
            <a:ext cx="3524040" cy="2495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54729ECA-25A5-4994-87B9-02D512E63924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033" descr=""/>
          <p:cNvPicPr/>
          <p:nvPr/>
        </p:nvPicPr>
        <p:blipFill>
          <a:blip r:embed="rId1"/>
          <a:stretch/>
        </p:blipFill>
        <p:spPr>
          <a:xfrm>
            <a:off x="4245120" y="4114800"/>
            <a:ext cx="4898880" cy="27766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TYPES OF E-COMMERC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types of e-comme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-to-Consumer (B2C)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ent buys D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-to-Business (B2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d buying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r-to-Business (C2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celine, consumer off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r-to-Consumer (C2C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Bay transaction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commerce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2AE90D9D-C51A-41A2-9107-9AB66E66F6F2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KEY TERM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processing unit (CP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AD06B86B-8558-4781-AFDF-92B7AC4C6CE8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GLOBAL E-COMMERC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86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-based computer systems &amp; software that translates info from one language to another, makes it possible to do business around the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nt transmission of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ing &amp; exporting can take place on a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deoconferencing – bringing people togeth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e-to-face while miles away from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3B370AEE-1257-4FA8-9108-8F52287B0B49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heckpoint </a:t>
            </a:r>
            <a:r>
              <a:rPr b="1" lang="en-US" sz="4000" spc="-1" strike="noStrike">
                <a:solidFill>
                  <a:srgbClr val="0066ff"/>
                </a:solidFill>
                <a:latin typeface="Wingdings"/>
                <a:ea typeface="Wingdings"/>
              </a:rPr>
              <a:t>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37760" y="2037960"/>
            <a:ext cx="8496360" cy="3878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the notations B2C and B2B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otation B2C refers to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-to-Consumer e-commerce model, while B2B means the Business-to-Busines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commerce mod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3"/>
          <p:cNvSpPr/>
          <p:nvPr/>
        </p:nvSpPr>
        <p:spPr>
          <a:xfrm>
            <a:off x="6553080" y="64144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933E8CBE-3845-4296-914E-33685F628EF9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5942160" cy="24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78080" indent="0">
              <a:buNone/>
              <a:tabLst>
                <a:tab algn="l" pos="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11-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ther Technology Issue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2971800"/>
            <a:ext cx="73152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378080" indent="0">
              <a:spcBef>
                <a:spcPts val="700"/>
              </a:spcBef>
              <a:buNone/>
              <a:tabLst>
                <a:tab algn="l" pos="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Goal 1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workplace uses of technolo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78080" indent="0">
              <a:spcBef>
                <a:spcPts val="700"/>
              </a:spcBef>
              <a:buNone/>
              <a:tabLst>
                <a:tab algn="l" pos="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Goal 2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home and personal applications of technolo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78080" indent="0">
              <a:spcBef>
                <a:spcPts val="700"/>
              </a:spcBef>
              <a:buNone/>
              <a:tabLst>
                <a:tab algn="l" pos="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Goal 3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social concerns related to technolo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72335FED-5C8C-4949-AA1E-8FD5E3DC57B3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KEY TERM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o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ficial intelligence (A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-aided design (C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comm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 vi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298B84EA-E2EF-4E01-A653-8E00301C5D4E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WORKPLACE TECHNOLOGY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4582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s help improv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cy &amp; produ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Robotic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mechanical devices programmed to do tasks, such as those in many facto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Bots – simple tasks, tighten bo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– see, hear, smell, feel; 24-hour worker, perform dangerous tasks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1" descr="http://www.roboticsbusinessreview.com/images/article/siemens_robot2.jpg"/>
          <p:cNvPicPr/>
          <p:nvPr/>
        </p:nvPicPr>
        <p:blipFill>
          <a:blip r:embed="rId1"/>
          <a:stretch/>
        </p:blipFill>
        <p:spPr>
          <a:xfrm>
            <a:off x="5870520" y="1450800"/>
            <a:ext cx="2590920" cy="2183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Drone Deliveries 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mazon Prime Air_x000b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ABC News - Dec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MAZON.COM SEES 30 MINUTE DELIVERY WITH DR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Google</a:t>
            </a:r>
            <a:r>
              <a:rPr b="0" lang="en-US" sz="3200" spc="-1" strike="noStrike" u="sng" baseline="30000">
                <a:solidFill>
                  <a:srgbClr val="009999"/>
                </a:solidFill>
                <a:uFillTx/>
                <a:latin typeface="Arial"/>
                <a:hlinkClick r:id="rId4"/>
              </a:rPr>
              <a:t>[x]  </a:t>
            </a:r>
            <a:r>
              <a:rPr b="0" lang="en-US" sz="3200" spc="-1" strike="noStrike" u="sng" baseline="30000">
                <a:solidFill>
                  <a:srgbClr val="009999"/>
                </a:solidFill>
                <a:uFillTx/>
                <a:latin typeface="Arial"/>
                <a:hlinkClick r:id="rId5"/>
              </a:rPr>
              <a:t>- Project W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Aug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ogle[x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semi-secret facility run by 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Goog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dedicated to making major technological advanc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9D82F9EF-5427-4016-B7FB-D84AF31773A4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9A735373-198B-4B3E-8A75-2FCD8BA40688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WORKPLACE TECHNOLOGY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er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75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puter programs that help people solve technical problems. Provides intelligent answers based on human expert knowledg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550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cal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550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ncial pla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550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gal mat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ificial Intelligence (A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that enables computers to reason, learn, and make deci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2" descr="http://www.enterrasolutions.com/media/Google-DeepMind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05640" y="3276720"/>
            <a:ext cx="2520720" cy="2131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8A34495F-BAEB-431D-82C4-B0F789655D37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WORKPLACE </a:t>
            </a:r>
            <a:br>
              <a:rPr sz="4000"/>
            </a:b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TECHNOLOGY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86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uter-aided desig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 of technology to create product styles and desi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variations before spending time and money on building model or going to p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lecomm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of a worker using a computer at home to do their job.  (Saves on travel time &amp; c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traffic and air 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active alternative for disabled or stay-at-home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http://images.macworld.com/images/article/2011/06/autocad-screenshotlarge-240760.jpg"/>
          <p:cNvPicPr/>
          <p:nvPr/>
        </p:nvPicPr>
        <p:blipFill>
          <a:blip r:embed="rId1"/>
          <a:stretch/>
        </p:blipFill>
        <p:spPr>
          <a:xfrm>
            <a:off x="6218280" y="0"/>
            <a:ext cx="2925720" cy="1828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A6B5FE2D-C00D-4B57-B8CF-40BFFAB23ACA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heckpoint </a:t>
            </a:r>
            <a:r>
              <a:rPr b="1" lang="en-US" sz="4000" spc="-1" strike="noStrike">
                <a:solidFill>
                  <a:srgbClr val="0066ff"/>
                </a:solidFill>
                <a:latin typeface="Wingdings"/>
                <a:ea typeface="Wingdings"/>
              </a:rPr>
              <a:t>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66720" y="2037960"/>
            <a:ext cx="7810560" cy="3878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computer-aided design (CAD) used by busines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es use CAD to experiment with many variations of sizes, shapes, and materials before spending time and money on building prototypes or starting actual prod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F678102E-1F13-4FE9-BF08-C5B11901A501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HOME AND PERSONAL TECHNOLOGY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and ho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ine sources, presentation software,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 robo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titive chores: vacuuming, m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Toys:  entertain, edu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ehold record 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ine shopping, financial records, download mu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books, recipe storage, medical records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http://www.clipartlord.com/wp-content/uploads/2014/02/robot19.png"/>
          <p:cNvPicPr/>
          <p:nvPr/>
        </p:nvPicPr>
        <p:blipFill>
          <a:blip r:embed="rId1"/>
          <a:stretch/>
        </p:blipFill>
        <p:spPr>
          <a:xfrm>
            <a:off x="6781680" y="3429000"/>
            <a:ext cx="1944720" cy="1762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F7AEBB96-8BC7-4542-A8C5-414F251CBD54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ELEMENTS OF A </a:t>
            </a:r>
            <a:br>
              <a:rPr sz="4000"/>
            </a:br>
            <a:r>
              <a:rPr b="1" lang="en-US" sz="4000" spc="-1" strike="noStrike" u="sng">
                <a:solidFill>
                  <a:srgbClr val="0066ff"/>
                </a:solidFill>
                <a:uFillTx/>
                <a:latin typeface="Arial"/>
              </a:rPr>
              <a:t>COMPUTER SYSTEM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86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75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l functioning components of a computer, including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762120" y="3579840"/>
            <a:ext cx="7696080" cy="3338640"/>
          </a:xfrm>
          <a:prstGeom prst="rect">
            <a:avLst/>
          </a:prstGeom>
          <a:ln w="0">
            <a:noFill/>
          </a:ln>
        </p:spPr>
      </p:pic>
      <p:sp>
        <p:nvSpPr>
          <p:cNvPr id="123" name="TextBox 1"/>
          <p:cNvSpPr/>
          <p:nvPr/>
        </p:nvSpPr>
        <p:spPr>
          <a:xfrm>
            <a:off x="3962520" y="2279520"/>
            <a:ext cx="464796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emory and 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utput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DF7BD383-E0C6-4297-82F0-AC1DDE83E805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heckpoint </a:t>
            </a:r>
            <a:r>
              <a:rPr b="1" lang="en-US" sz="4000" spc="-1" strike="noStrike">
                <a:solidFill>
                  <a:srgbClr val="0066ff"/>
                </a:solidFill>
                <a:latin typeface="Wingdings"/>
                <a:ea typeface="Wingdings"/>
              </a:rPr>
              <a:t>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90040" y="2037960"/>
            <a:ext cx="8115480" cy="3878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ypes of technology tools are availabl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vailable tools include word processing software for preparing written assignments, Internet browsers for conducting research, online dictionaries and encyclopedias, and presentation software for creating slide show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D5B5D98B-40DC-45F3-A150-CFF513E288A1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SOCIAL CONCERNS </a:t>
            </a:r>
            <a:br>
              <a:rPr sz="4000"/>
            </a:b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OF TECHNOLOGY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4582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Technology will continue to expand the potential uses of computers in busine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software will eliminate some jobs while increasing job growth in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ed computer use has resulted in concerns about health, safety, criminal activities and priv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D7BE11BF-210D-410F-A3CF-0EDB04F3E9B5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SOCIAL CONCERNS </a:t>
            </a:r>
            <a:br>
              <a:rPr sz="4000"/>
            </a:b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OF TECHNOLOGY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mployment tr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ced workers – unemployed because of job changing condition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need – programming, operating, repairing computer system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Literacy – the ability to use computers to process info or solve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C833DB6E-40B0-4A76-95B9-68763483D255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SOCIAL CONCERNS </a:t>
            </a:r>
            <a:br>
              <a:rPr sz="4000"/>
            </a:b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OF TECHNOLOGY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ealth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yestrain, vision problems, muscle tension, nerve damage, back pain - too long sitting staring at comput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2" descr="http://www.dailytidings.com/storyimage/DT/20110310/NEWS/103100313/AR/0/AR-103100313.jpg"/>
          <p:cNvPicPr/>
          <p:nvPr/>
        </p:nvPicPr>
        <p:blipFill>
          <a:blip r:embed="rId1"/>
          <a:stretch/>
        </p:blipFill>
        <p:spPr>
          <a:xfrm>
            <a:off x="1792440" y="3198960"/>
            <a:ext cx="5715000" cy="3676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C9EED8AF-34A8-4B26-9DED-BB0C7F46F8F1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7696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SOCIAL CONCERNS </a:t>
            </a:r>
            <a:br>
              <a:rPr sz="4000"/>
            </a:b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OF TECHNOLOGY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 cr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White-collar crim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illegal acts  carried out by office or professional workers while at work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teal money or info through illegal access to comput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iracy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 stealing/illegally copying software packages or info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Copyright laws apply to software as well as books/musi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mputer viru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program code hidden in a system that can later do damage to software or stored data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" descr=""/>
          <p:cNvPicPr/>
          <p:nvPr/>
        </p:nvPicPr>
        <p:blipFill>
          <a:blip r:embed="rId1"/>
          <a:stretch/>
        </p:blipFill>
        <p:spPr>
          <a:xfrm>
            <a:off x="5564160" y="-17640"/>
            <a:ext cx="3597480" cy="1998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97B9DBDF-FF86-4226-9B4E-0904AEAE37B4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SOCIAL CONCERNS </a:t>
            </a:r>
            <a:br>
              <a:rPr sz="4000"/>
            </a:b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OF TECHNOLOGY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8390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cy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st challenge facing computer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ghter security systems needed, smarter hac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. change passwords needed to access info several times a day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Comcast – login, pin, 2 min password on key fo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dentity Thef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ieves obtain personal info and apply for credit card or access their bank ac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5360" indent="-219240">
              <a:spcBef>
                <a:spcPts val="499"/>
              </a:spcBef>
              <a:buClr>
                <a:srgbClr val="000000"/>
              </a:buClr>
              <a:buFont typeface="Arial"/>
              <a:buChar char="●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deral Trade Commission – 9 million people have their identities stolen in the U.S. each ye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2" descr="http://www.identityguard.com/wp-content/uploads/2012/09/identity-theft-online-e1346776783193.jpg"/>
          <p:cNvPicPr/>
          <p:nvPr/>
        </p:nvPicPr>
        <p:blipFill>
          <a:blip r:embed="rId1"/>
          <a:stretch/>
        </p:blipFill>
        <p:spPr>
          <a:xfrm>
            <a:off x="5800680" y="0"/>
            <a:ext cx="3343320" cy="2286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" descr=""/>
          <p:cNvPicPr/>
          <p:nvPr/>
        </p:nvPicPr>
        <p:blipFill>
          <a:blip r:embed="rId2"/>
          <a:stretch/>
        </p:blipFill>
        <p:spPr>
          <a:xfrm>
            <a:off x="0" y="5638680"/>
            <a:ext cx="1776240" cy="1219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4B5C4FBF-78E5-4316-B363-80F80C4F4B3F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heckpoint </a:t>
            </a:r>
            <a:r>
              <a:rPr b="1" lang="en-US" sz="4000" spc="-1" strike="noStrike">
                <a:solidFill>
                  <a:srgbClr val="0066ff"/>
                </a:solidFill>
                <a:latin typeface="Wingdings"/>
                <a:ea typeface="Wingdings"/>
              </a:rPr>
              <a:t>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66720" y="2037960"/>
            <a:ext cx="7810560" cy="3878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companies suffer from software pirac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piracy robs the creators of software of their legal profi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very expensive to develop new software, often requiring teams of hundreds of workers for a single progr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of software piracy, companies have fewer dollars available to spend on creating new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ELEMENTS OF A </a:t>
            </a:r>
            <a:br>
              <a:rPr sz="4000"/>
            </a:b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OMPUTER SYSTEM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elements of a compute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amples: Keyboard, cameras, microphone, speaker, monitor, printers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that run the compute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amples:  Microsoft Office Suit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Word, Excel, Powerpoint, Publisher, etc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48591B50-6177-4FDA-84A5-840533748887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http://www.differencebetween.info/sites/default/files/images/hardware-vs-software.jpg"/>
          <p:cNvPicPr/>
          <p:nvPr/>
        </p:nvPicPr>
        <p:blipFill>
          <a:blip r:embed="rId1"/>
          <a:stretch/>
        </p:blipFill>
        <p:spPr>
          <a:xfrm>
            <a:off x="6095880" y="3505320"/>
            <a:ext cx="2590920" cy="1347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OMPUTER NETWORK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0880" y="18745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roup of computers that are linked together so users can share hardware, software &amp;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ample:  UDSD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Intern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larges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st-known comput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in the worl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8C1AB6A9-085C-452A-B14C-1EE0B99C1556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http://www.russbellew.com/siteimages/computernetwork_iStock_000004660040XSmall-2.jpg"/>
          <p:cNvPicPr/>
          <p:nvPr/>
        </p:nvPicPr>
        <p:blipFill>
          <a:blip r:embed="rId1"/>
          <a:stretch/>
        </p:blipFill>
        <p:spPr>
          <a:xfrm>
            <a:off x="5537160" y="3581280"/>
            <a:ext cx="3454560" cy="2590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C7C48CCA-1AC5-49B0-BE23-51F77FF0D08A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26"/>
          <p:cNvSpPr/>
          <p:nvPr/>
        </p:nvSpPr>
        <p:spPr>
          <a:xfrm>
            <a:off x="4954680" y="2209680"/>
            <a:ext cx="32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OMPUTER NETWORK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computer network (Int</a:t>
            </a:r>
            <a:r>
              <a:rPr b="1" lang="en-US" sz="3200" spc="-1" strike="noStrike" u="sng">
                <a:solidFill>
                  <a:srgbClr val="0070c0"/>
                </a:solidFill>
                <a:uFillTx/>
                <a:latin typeface="Arial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N – Global Area Net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ccessing the World Wide Web (ww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changing e-mail, communi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computer network (int</a:t>
            </a:r>
            <a:r>
              <a:rPr b="1" lang="en-US" sz="3200" spc="-1" strike="noStrike" u="sng">
                <a:solidFill>
                  <a:srgbClr val="0070c0"/>
                </a:solidFill>
                <a:uFillTx/>
                <a:latin typeface="Arial"/>
              </a:rPr>
              <a:t>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 – Local Area Net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s like a typical website, but 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share information within an organization by authorize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5147C52C-F8F3-4CDC-BBFF-37483B65D44B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heckpoint </a:t>
            </a:r>
            <a:r>
              <a:rPr b="1" lang="en-US" sz="4000" spc="-1" strike="noStrike">
                <a:solidFill>
                  <a:srgbClr val="0066ff"/>
                </a:solidFill>
                <a:latin typeface="Wingdings"/>
                <a:ea typeface="Wingdings"/>
              </a:rPr>
              <a:t>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66720" y="2037960"/>
            <a:ext cx="7810560" cy="3878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the four main elements of a computer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 device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and 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device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7507440" y="45504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LIDE </a:t>
            </a:r>
            <a:fld id="{57B82E77-25B6-4A52-B777-387904276B34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INPUT AND PROCESSING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8390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: getting started; first major compon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Devi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28600">
              <a:spcBef>
                <a:spcPts val="499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board &amp; M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28600">
              <a:spcBef>
                <a:spcPts val="451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uchpads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ptops – alternative 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28600">
              <a:spcBef>
                <a:spcPts val="451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lers/Joysticks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deo G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28600">
              <a:spcBef>
                <a:spcPts val="451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uch Screens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s – alternative 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28600">
              <a:spcBef>
                <a:spcPts val="451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er Devices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code Scanners – Track Sales/Inventory/Shi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28600">
              <a:spcBef>
                <a:spcPts val="451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cams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deo Conferen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28600">
              <a:spcBef>
                <a:spcPts val="451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ners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 words/images into computer-readable forma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28600">
              <a:spcBef>
                <a:spcPts val="451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ice-Activated Systems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oken words translated to data/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28600">
              <a:spcBef>
                <a:spcPts val="451"/>
              </a:spcBef>
              <a:buClr>
                <a:srgbClr val="ff66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phones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dio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http://1.bp.blogspot.com/-GeBogQz-XUI/UHhOQeF7l1I/AAAAAAAAAVo/z_ZNLFguhNg/s1600/input+device.jpg"/>
          <p:cNvPicPr/>
          <p:nvPr/>
        </p:nvPicPr>
        <p:blipFill>
          <a:blip r:embed="rId1"/>
          <a:stretch/>
        </p:blipFill>
        <p:spPr>
          <a:xfrm>
            <a:off x="6553080" y="2565360"/>
            <a:ext cx="2133720" cy="1638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1:13:34Z</dcterms:created>
  <dc:creator>Brian</dc:creator>
  <dc:description/>
  <dc:language>en-US</dc:language>
  <cp:lastModifiedBy>Jessica Sundling</cp:lastModifiedBy>
  <dcterms:modified xsi:type="dcterms:W3CDTF">2015-02-04T14:21:28Z</dcterms:modified>
  <cp:revision>56</cp:revision>
  <dc:subject/>
  <dc:title>Business and Technology</dc:title>
</cp:coreProperties>
</file>